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E96C-B832-4ACC-A49A-C78CCB060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2D2-50D3-4615-BC23-089416A9A7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8CF-62FF-4DB7-A9AB-95C5D79E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3BD-22AF-43E1-AF58-AA9C79E0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026-C94A-4A0F-94B7-7D9332D4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57B-6F61-4640-A2A7-5B9050FD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7A3B-F39E-4A36-BAD8-B218D18C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8BB3-2A43-49D1-A932-E045C0FB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B7F1-38A8-4364-BB24-364C8E5B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6FCD-CE4E-4205-AAC0-120B5456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D889-008F-4BE4-8EA9-AF26DE9E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0C5A-4E6A-4DC0-AA48-1466E646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F6CA-B482-4889-9149-3A3A0CC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BA0-9C55-48E7-B90E-125430E9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0D1B-66B6-42FF-BA68-BFC196B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4022-18CD-4F02-A321-FB1A58B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63B4-BF90-47BF-9858-E53CD07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C883-B157-42DD-988B-8D395D2B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C65D-CA9A-4739-9630-9559CFD8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AED-4A66-437B-A5DB-DB78A2EE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747-6EE6-4876-B178-33101102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E15-EC59-43E9-A6A0-9E78A1FB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EEA-5E24-4DD8-9FBD-0CC2F0FF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6B7-B627-4CA8-A71E-A4E40E3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0FF-34E5-4308-9903-41A00E2D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8E8-B0D6-4B1A-8CD9-064F3074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19B5-C828-4CE2-8C76-6B9B07E49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9E2A-2576-4CBF-9F14-BED44BEAAD28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abook.libraries.psu.edu/familylit/FFN/workshop1/Furry_anno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17"/>
                </a:solidFill>
                <a:latin typeface="Arial"/>
              </a:rPr>
              <a:t>Jerry Pallota, The Alpahbet Man </a:t>
            </a: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c17"/>
                </a:solidFill>
                <a:latin typeface="Tahoma"/>
              </a:rPr>
              <a:t>On May 24</a:t>
            </a:r>
            <a:r>
              <a:rPr b="0" lang="en-US" sz="2000" spc="-1" strike="noStrike" baseline="30000">
                <a:solidFill>
                  <a:srgbClr val="f7cc17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7cc17"/>
                </a:solidFill>
                <a:latin typeface="Tahoma"/>
              </a:rPr>
              <a:t>, our school will be visited by author Jerry Pallota. He has the name of Alphabet Man because he is known for writing alphabet book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Pallotta2"/>
          <p:cNvPicPr/>
          <p:nvPr/>
        </p:nvPicPr>
        <p:blipFill>
          <a:blip r:embed="rId1"/>
          <a:stretch/>
        </p:blipFill>
        <p:spPr>
          <a:xfrm>
            <a:off x="3124080" y="2057400"/>
            <a:ext cx="33339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" descr="http://lh6.ggpht.com/_SD_b4RbCWSI/RsJRBhB5tfI/AAAAAAAAAb4/o2ZFCDQ_cl0/DSCF3824.JPG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http://lh4.ggpht.com/_SD_b4RbCWSI/RsJRaBB5twI/AAAAAAAAAeE/C7Z0P4TUCOw/DSCF3846.JPG"/>
          <p:cNvPicPr/>
          <p:nvPr/>
        </p:nvPicPr>
        <p:blipFill>
          <a:blip r:embed="rId1"/>
          <a:stretch/>
        </p:blipFill>
        <p:spPr>
          <a:xfrm>
            <a:off x="76320" y="-182520"/>
            <a:ext cx="4076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Many Book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ry has written some 39 alphabet book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a few of his tit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DinoAlpha"/>
          <p:cNvPicPr/>
          <p:nvPr/>
        </p:nvPicPr>
        <p:blipFill>
          <a:blip r:embed="rId1"/>
          <a:stretch/>
        </p:blipFill>
        <p:spPr>
          <a:xfrm>
            <a:off x="6019920" y="3809880"/>
            <a:ext cx="2917800" cy="2381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pabook.libraries.psu.edu/familylit/images/FurryAnima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3809880"/>
            <a:ext cx="2835360" cy="23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www.lookingglassreview.com/assets/images/The_vegetable_Alphabet_Book.jpg"/>
          <p:cNvPicPr/>
          <p:nvPr/>
        </p:nvPicPr>
        <p:blipFill>
          <a:blip r:embed="rId4"/>
          <a:stretch/>
        </p:blipFill>
        <p:spPr>
          <a:xfrm>
            <a:off x="152280" y="3886200"/>
            <a:ext cx="280836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ecx.images-amazon.com/images/I/51SFZVBNEQL._SL500_.jpg"/>
          <p:cNvPicPr/>
          <p:nvPr/>
        </p:nvPicPr>
        <p:blipFill>
          <a:blip r:embed="rId5"/>
          <a:stretch/>
        </p:blipFill>
        <p:spPr>
          <a:xfrm>
            <a:off x="3124080" y="3809880"/>
            <a:ext cx="2783160" cy="239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http://www.educationworld.com/a_books/images/boat_abc.jpg"/>
          <p:cNvPicPr/>
          <p:nvPr/>
        </p:nvPicPr>
        <p:blipFill>
          <a:blip r:embed="rId6"/>
          <a:stretch/>
        </p:blipFill>
        <p:spPr>
          <a:xfrm>
            <a:off x="152280" y="388620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ttp://www.syndetics.com/index.aspx?type=xw12&amp;isbn=9780881064605/LC.GIF&amp;client=loudp"/>
          <p:cNvPicPr/>
          <p:nvPr/>
        </p:nvPicPr>
        <p:blipFill>
          <a:blip r:embed="rId7"/>
          <a:stretch/>
        </p:blipFill>
        <p:spPr>
          <a:xfrm>
            <a:off x="5943600" y="3809880"/>
            <a:ext cx="30686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Books with  math topics 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http://www.kidsbooks4less.com/picturebooks/twizzlers.jpg"/>
          <p:cNvPicPr/>
          <p:nvPr/>
        </p:nvPicPr>
        <p:blipFill>
          <a:blip r:embed="rId1"/>
          <a:stretch/>
        </p:blipFill>
        <p:spPr>
          <a:xfrm>
            <a:off x="3048120" y="3352680"/>
            <a:ext cx="2595600" cy="217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http://blog.richmond.edu/openwidelookinside/files/2009/07/hersheybarfractions.jpg"/>
          <p:cNvPicPr/>
          <p:nvPr/>
        </p:nvPicPr>
        <p:blipFill>
          <a:blip r:embed="rId2"/>
          <a:stretch/>
        </p:blipFill>
        <p:spPr>
          <a:xfrm>
            <a:off x="6095880" y="3200400"/>
            <a:ext cx="2765520" cy="23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http://img.fkcdn.com/img/241/9780613357241.jpg"/>
          <p:cNvPicPr/>
          <p:nvPr/>
        </p:nvPicPr>
        <p:blipFill>
          <a:blip r:embed="rId3"/>
          <a:stretch/>
        </p:blipFill>
        <p:spPr>
          <a:xfrm>
            <a:off x="382680" y="3276720"/>
            <a:ext cx="1960560" cy="1685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http://images.alibris.com/isbn/9780439357968.gif"/>
          <p:cNvPicPr/>
          <p:nvPr/>
        </p:nvPicPr>
        <p:blipFill>
          <a:blip r:embed="rId4"/>
          <a:stretch/>
        </p:blipFill>
        <p:spPr>
          <a:xfrm>
            <a:off x="380880" y="685800"/>
            <a:ext cx="1781280" cy="160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http://images.swaptree.com/images/books/75/0439388775.jpg"/>
          <p:cNvPicPr/>
          <p:nvPr/>
        </p:nvPicPr>
        <p:blipFill>
          <a:blip r:embed="rId5"/>
          <a:stretch/>
        </p:blipFill>
        <p:spPr>
          <a:xfrm>
            <a:off x="4191120" y="4191120"/>
            <a:ext cx="28000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10" name="Picture 9" descr="http://img.infibeam.com/img/342d064b/701/2/9780613512701.jpg"/>
          <p:cNvPicPr/>
          <p:nvPr/>
        </p:nvPicPr>
        <p:blipFill>
          <a:blip r:embed="rId1"/>
          <a:stretch/>
        </p:blipFill>
        <p:spPr>
          <a:xfrm>
            <a:off x="762120" y="2438280"/>
            <a:ext cx="2857320" cy="2200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http://cdn.overstock.com/images/products/muze/books/0881064963.jpg"/>
          <p:cNvPicPr/>
          <p:nvPr/>
        </p:nvPicPr>
        <p:blipFill>
          <a:blip r:embed="rId2"/>
          <a:stretch/>
        </p:blipFill>
        <p:spPr>
          <a:xfrm>
            <a:off x="3962520" y="2819520"/>
            <a:ext cx="2895480" cy="2352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img.fkcdn.com/img/013/9780439389013.jpg"/>
          <p:cNvPicPr/>
          <p:nvPr/>
        </p:nvPicPr>
        <p:blipFill>
          <a:blip r:embed="rId3"/>
          <a:stretch/>
        </p:blipFill>
        <p:spPr>
          <a:xfrm>
            <a:off x="7238880" y="320040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Book cover for The Crayon Counting Book"/>
          <p:cNvPicPr/>
          <p:nvPr/>
        </p:nvPicPr>
        <p:blipFill>
          <a:blip r:embed="rId4"/>
          <a:stretch/>
        </p:blipFill>
        <p:spPr>
          <a:xfrm>
            <a:off x="685800" y="4724280"/>
            <a:ext cx="2028960" cy="1524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From Addition to Multiplication"/>
          <p:cNvPicPr/>
          <p:nvPr/>
        </p:nvPicPr>
        <p:blipFill>
          <a:blip r:embed="rId5"/>
          <a:stretch/>
        </p:blipFill>
        <p:spPr>
          <a:xfrm>
            <a:off x="7086600" y="5105520"/>
            <a:ext cx="137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://imshopping.rediff.com/imgchkbooks/75-100/books/pixs/01/0439560101.jpg"/>
          <p:cNvPicPr/>
          <p:nvPr/>
        </p:nvPicPr>
        <p:blipFill>
          <a:blip r:embed="rId6"/>
          <a:stretch/>
        </p:blipFill>
        <p:spPr>
          <a:xfrm>
            <a:off x="4114800" y="5486400"/>
            <a:ext cx="14763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" descr="http://img.infibeam.com/img/5583bc60/218/5/9780439025218.jpg"/>
          <p:cNvPicPr/>
          <p:nvPr/>
        </p:nvPicPr>
        <p:blipFill>
          <a:blip r:embed="rId1"/>
          <a:stretch/>
        </p:blipFill>
        <p:spPr>
          <a:xfrm>
            <a:off x="228600" y="3352680"/>
            <a:ext cx="3147840" cy="2590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ages.barnesandnoble.com/images/14600000/14601549.JPG"/>
          <p:cNvPicPr/>
          <p:nvPr/>
        </p:nvPicPr>
        <p:blipFill>
          <a:blip r:embed="rId2"/>
          <a:stretch/>
        </p:blipFill>
        <p:spPr>
          <a:xfrm>
            <a:off x="3666960" y="35053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lincoln.midcoast.com/~wps/jackson/alphabet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http://imshopping.rediff.com/books/imagechek/books/pixs/9x/088106419x.jpg"/>
          <p:cNvPicPr/>
          <p:nvPr/>
        </p:nvPicPr>
        <p:blipFill>
          <a:blip r:embed="rId1"/>
          <a:stretch/>
        </p:blipFill>
        <p:spPr>
          <a:xfrm>
            <a:off x="228600" y="2362320"/>
            <a:ext cx="2638440" cy="2419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rcowen.com/images/MTAPallotta-ReadaZillionBooksres.jpg"/>
          <p:cNvPicPr/>
          <p:nvPr/>
        </p:nvPicPr>
        <p:blipFill>
          <a:blip r:embed="rId2"/>
          <a:stretch/>
        </p:blipFill>
        <p:spPr>
          <a:xfrm>
            <a:off x="990720" y="4952880"/>
            <a:ext cx="1038240" cy="1276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533520" y="6248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jerrypallotta.com/alphabetman_mybooks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http://thumbnail.image.rakuten.co.jp/@0_mall/book/cabinet/jan_9780439/9780439389174.jpg"/>
          <p:cNvPicPr/>
          <p:nvPr/>
        </p:nvPicPr>
        <p:blipFill>
          <a:blip r:embed="rId1"/>
          <a:stretch/>
        </p:blipFill>
        <p:spPr>
          <a:xfrm>
            <a:off x="4191120" y="19051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blog.richmond.edu/openwidelookinside/files/2009/07/dscn0015_edited.JPG"/>
          <p:cNvPicPr/>
          <p:nvPr/>
        </p:nvPicPr>
        <p:blipFill>
          <a:blip r:embed="rId2"/>
          <a:stretch/>
        </p:blipFill>
        <p:spPr>
          <a:xfrm>
            <a:off x="0" y="1371600"/>
            <a:ext cx="5635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http://www.magicsuitcase.ca/images/covers/190.jpg"/>
          <p:cNvPicPr/>
          <p:nvPr/>
        </p:nvPicPr>
        <p:blipFill>
          <a:blip r:embed="rId1"/>
          <a:stretch/>
        </p:blipFill>
        <p:spPr>
          <a:xfrm>
            <a:off x="1600200" y="2590920"/>
            <a:ext cx="14288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5:24:42Z</dcterms:created>
  <dc:creator>Joanna Marinelli</dc:creator>
  <dc:description/>
  <cp:keywords/>
  <dc:language>en-US</dc:language>
  <cp:lastModifiedBy>Debbie</cp:lastModifiedBy>
  <dcterms:modified xsi:type="dcterms:W3CDTF">2010-04-19T11:45:14Z</dcterms:modified>
  <cp:revision>7</cp:revision>
  <dc:subject/>
  <dc:title>Data Collection  facts, statistics, or items of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